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0.png" ContentType="image/png"/>
  <Override PartName="/ppt/media/image5.wmf" ContentType="image/x-wmf"/>
  <Override PartName="/ppt/media/image6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2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07/16/9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3"/>
          </p:nvPr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4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8C434357-2415-4F49-87EC-6953D25FBA26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6189B722-2B75-49B8-8D86-E282F84DF15C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9259-2722-413C-A071-316A572966C4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CBA3-B936-40DB-8547-D612F443AA65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9D3A-84F2-4509-B25C-2CBD703AF224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B16E-EAE1-4229-906C-1F2746FE1555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829A-CFAE-4EB3-A7A9-697319A2729E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1884-CF9D-4C68-B41A-E4FBBC477745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9024-A16A-464D-821B-19FF32CB80BB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1C4D-810B-4D12-8DEB-F19448FD6DE9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D79A-FAE2-4C3D-8308-3E4BFAD8429F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6A08-1DEF-46D5-8609-12E551480D9A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9655-2BDA-41CF-8D47-865A1259F922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937E-0FC9-4846-B1B7-AFEB34E275A0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49D4-8D75-4539-8CBD-8A4A4B976A29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1369E-417D-47A9-BE28-2BBA2CFA9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FB95A-840A-47BE-AD49-2080EC4CE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D2795-823E-4D7F-A26F-38713794E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5B90C-06E0-4D0E-BA84-1776FE3D3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2A4-9F3F-4C54-9943-E3EB5B579E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38CE-C64D-4580-9589-02F5AA8434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6F4-7E9D-4F45-A1EA-CB5CF90BD3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DCB-6D86-4543-BB73-7138CB57D2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DC4-9681-4891-A3A9-A52B758A38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A2D-102A-4572-9BF4-00B7B3087A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293-EB46-4320-900B-9F1B879153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EA802-975D-4C58-AAA8-C259BC142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778-E1EC-4185-8181-8C4CB98CB4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2C80-F645-4519-B1BF-F0F93D9BF0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1B2-513F-4F49-8635-6C1C2F09B0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E725-42D7-48BD-BB7E-77F851CDDE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E944-F246-4940-8B5C-618C575B15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04B6-65B0-49E8-98BD-2E805AF7AC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62D3-9579-49E6-9C17-A3B45FCBF0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FCD7-9767-44B5-962E-5ADE12C95D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2C2A-C3FA-46E5-9254-8D3399ED90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B16B-3C00-4133-B435-E4405C28E5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B6DE1-32F8-4807-857F-02CDC944FC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058C-0DCD-4CEA-A00B-1C3FCC4002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0F98-84F3-4664-88BF-27EF0E57E9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C9F6-4243-4AA9-9D93-1C8795C407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3E07-BE10-4092-9096-F468D753CC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BB05-3A61-49AA-802A-209971B17A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D78A-FE1D-41AA-8B9F-9E98738003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69AE-95EF-4FEB-9815-FCBCEB5F77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BB32C-A0AA-47DF-8A61-258F6CD65D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A8FF6F-C6DC-460B-B58B-8B28A8A26A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A08B8C-0795-4576-BD5B-933C3C72B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1A8BA-CA31-4233-B31C-9B39BA2442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20F3F-CD2E-4167-AB7A-BC2F8AF19B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DAFDC2-E203-4C2C-A913-44CADD4D06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66487-4C78-4031-9EA2-B340B2C8282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29A879-BC46-4DA3-8531-85BC351EAEF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14BFB-569A-485B-8293-E3356118B7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31432-7551-41B1-982E-6D5E0246C4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21CC5-4951-49DD-8843-5A99495310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2E671-CADD-40C3-8989-2F498CF6CB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DA5F4-9C7C-4187-AB62-4CBAB06FB13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ECA69-69DE-4779-ADF3-1BFD0789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A811A-51D2-4D29-A63E-7726D2D6B76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B9DA0B-5114-46AB-A155-8D8F4639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BD27B6-6362-4B4E-97E3-A9752B2B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16E4F9-492F-4EFE-A197-AD9605CD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D5C900-9772-4193-9D54-E40E01FA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7A3E49-9B4A-4B0B-A55B-E354F76F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9C3109-7A56-43EF-AD2B-48BFB78F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92E01E-FF97-47ED-BE79-B28E73B8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6C543B-4018-4E1A-8184-A66930B2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CC0F06-4F97-45F6-877B-D1D600C7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150B90-4E26-47D1-A5F0-99257D2A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49320-5B58-49F8-B7BB-F7DEBDCE674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9D7350-DD4E-41FB-80D7-249AC46C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26845-D539-4F99-8974-8EA05F4AF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4A1BA-D434-4DF3-B341-0A6A0FB07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199E-7ECC-4B4F-9A2E-DE9B1DAD9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580000" y="6552720"/>
            <a:ext cx="356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pyright EirGrid/SONI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EBA1-D221-4183-8C6B-F2C7BB000F83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5614920"/>
            <a:ext cx="1306440" cy="124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4" descr="EirGrid_Logo_LORES"/>
          <p:cNvPicPr/>
          <p:nvPr/>
        </p:nvPicPr>
        <p:blipFill>
          <a:blip r:embed="rId2"/>
          <a:stretch/>
        </p:blipFill>
        <p:spPr>
          <a:xfrm>
            <a:off x="0" y="6100920"/>
            <a:ext cx="1486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banner1_01"/>
          <p:cNvPicPr/>
          <p:nvPr/>
        </p:nvPicPr>
        <p:blipFill>
          <a:blip r:embed="rId3"/>
          <a:srcRect l="1411" t="0" r="0" b="0"/>
          <a:stretch/>
        </p:blipFill>
        <p:spPr>
          <a:xfrm>
            <a:off x="7810560" y="6095880"/>
            <a:ext cx="134280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Semo logo.jpg"/>
          <p:cNvPicPr/>
          <p:nvPr/>
        </p:nvPicPr>
        <p:blipFill>
          <a:blip r:embed="rId4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DB82-D0CC-40B4-B4B8-8348E5EF535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A709-D113-4452-BDBA-332653DBA86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7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8ADA-CED5-41D7-8C41-BFCBCCCE50D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SEMO LOGO"/>
          <p:cNvPicPr/>
          <p:nvPr/>
        </p:nvPicPr>
        <p:blipFill>
          <a:blip r:embed="rId2"/>
          <a:stretch/>
        </p:blipFill>
        <p:spPr>
          <a:xfrm>
            <a:off x="1692360" y="861840"/>
            <a:ext cx="5788080" cy="24228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FBE1-3A3B-46CF-84AC-EA58E257A9A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© EirGrid &amp; SONI, 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CF5B-E871-43CD-9149-FA9AE26549E8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377720" y="4962600"/>
            <a:ext cx="667692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Global Aggregation Working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IE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April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74720" y="2600280"/>
            <a:ext cx="777240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8696-8247-401F-8FD5-F94B4EA82332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0" y="1266840"/>
            <a:ext cx="9144000" cy="15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figured updated calculation to get to modified Net Deman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Used the average Trading Period SMP for March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243080" y="2921040"/>
            <a:ext cx="6105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BB44-F087-44C3-B4A9-F4A7A470925A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1266840"/>
            <a:ext cx="9144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mall rounding variances observed on one of the data set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verage variance of -0.0000169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Variances were balance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ayment calculations for Suppliers were the sam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emonstrates accuracy of Option E to Option 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3673-29B8-472A-9E3B-5377C5E4D9DD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0" y="1266840"/>
            <a:ext cx="9144000" cy="47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rther benefits of Option E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 change to Credit Risk requirements of the SE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isk of migration strategy significantly reduce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urrently 66 Suppliers registered in the SEM of which at least half would have to become two Supplier Units under option 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duced registration overheads on future Supplier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n-Participant Generation managed easier than under option D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F599-1B2D-43DE-B18A-04205E63B5E9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1266840"/>
            <a:ext cx="9144000" cy="55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Updated Option A+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quirements for reporting on Residual Volum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ublic report of MWh value per Trading Perio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MGLF and JMDLF currently included in public market report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idual Volume = (JMGLF – JMDLF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ata will continue to be included post implementation of Global Aggregation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EMO suggest that current public reports meet the requirements of A+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FFEF-DFB6-48AA-9595-0BB4A610C245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0" y="1266840"/>
            <a:ext cx="91440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mmary of SEMO system impacts for the option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 A – No system cos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 B – Medium (€37K - €55.5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 C – Medium (€37K - €55.5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 D – Medium (€74K - €83.25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 E – Medium (€55K - €74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711360" y="5311800"/>
            <a:ext cx="74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Arial"/>
              </a:rPr>
              <a:t>Important: These costs are indicative only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Arial"/>
              </a:rPr>
              <a:t>will require a Full Impact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C074-A3A2-4BC2-8E97-FD8830CE8923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1266840"/>
            <a:ext cx="914400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2, held on 2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February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ctions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&amp; MDPs to meet to further review options D and 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to impact assess options A+ and 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F244-ED4B-4C54-AC16-FC25C7C7EAE9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0" y="126684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eeting between MRSO, NIE T&amp;D and SEMO took place on March 5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rther review of Options D and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ption E confirmed as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gregation for Supplier Units as norm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sion of a % value for each Trading Peri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value will indicate at a MW level the proportion of the aggregation that is made up of non-interval meterin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value can change on M+4 and M+13 re-aggregation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D8EF-8B92-458C-BD63-281872147672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0" y="1266840"/>
            <a:ext cx="892656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rther Impact Assessment requested from vendors on option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imilar changes as required under Options C/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 changes to Settlement/MI interface or Registration syste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eter webservice to be extended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dditional variables to be configure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ssumption: No validations on the new fiel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ffort: Medium: €55k - €74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7C93-3E99-4E9B-BC54-09CE1367642B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0" y="1266840"/>
            <a:ext cx="9144000" cy="39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tes comments at Working Group 2 with respect to accuracy of Option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DPs worked with SEMO to demonstrate accuracy of Option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RSO &amp; NIE T&amp;D provided SEMO with sample data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ample data based on actual aggregated quantities for one Supplier Uni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ne data set to follow the proposed Option 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ther data set to follow Option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585C-1F4A-446F-963C-73D018A454D5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157320" y="1409760"/>
            <a:ext cx="88293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8B55-0BDE-4E01-A533-10E27C26BC58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1266840"/>
            <a:ext cx="9144000" cy="33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MVPI set to 30%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andom values select for the Residual Meter Volum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or Option D, applied equation from modific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16040" y="3359160"/>
            <a:ext cx="6114960" cy="3230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2514600" y="3514680"/>
            <a:ext cx="53514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D0EE-F29C-462E-BEA0-A267ED0D2592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0" y="1266840"/>
            <a:ext cx="9144000" cy="25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figured calculation from mod to get to modified Net Deman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lculated energy charge by applying the average Trading Period SMP for March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171440" y="3218040"/>
            <a:ext cx="68407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19D8-17A4-4197-A497-66EEA9E26577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0" y="1266840"/>
            <a:ext cx="9144000" cy="27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ore detailed calculations required under option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quired to disaggregate the Interval portion from the Non-Interval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or the interval data -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392040" y="3645000"/>
            <a:ext cx="3743280" cy="2124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4343400" y="3929040"/>
            <a:ext cx="4143240" cy="27432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8"/>
          <p:cNvSpPr/>
          <p:nvPr/>
        </p:nvSpPr>
        <p:spPr>
          <a:xfrm>
            <a:off x="4092480" y="3121200"/>
            <a:ext cx="44132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or the non-interval data -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9:05:22Z</dcterms:created>
  <dc:creator>Brendan O'Sullivan</dc:creator>
  <dc:description/>
  <cp:keywords/>
  <dc:language>en-US</dc:language>
  <cp:lastModifiedBy>Aisling O'Donnell</cp:lastModifiedBy>
  <cp:lastPrinted>2002-07-25T14:31:52Z</cp:lastPrinted>
  <dcterms:modified xsi:type="dcterms:W3CDTF">2010-04-27T07:59:49Z</dcterms:modified>
  <cp:revision>657</cp:revision>
  <dc:subject>Mod 34_09 Report</dc:subject>
  <dc:title>SEMO</dc:title>
</cp:coreProperties>
</file>